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camera.wav" ContentType="audio/x-wav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8E0-C14C-4D8D-8D17-B9604D44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DF7-93F1-48BD-A8E6-F5A6185C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690-08AB-4D0D-819E-91594727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B42-CD28-4724-B843-35ED3905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942-149D-4EBB-A689-21D76A1D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9D4-EF83-4408-A74A-FEA1F3E9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F1C-8D61-4A51-B10E-1BAC8764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F3E-B7AC-49EF-83B4-4C6DE351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265-B525-4240-B11F-3514B70D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0B2-FA6D-4B27-A6B0-59A28607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FBD-9A3C-4D03-B145-F20B1E4E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B87-A467-479F-B4B2-21000F6E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328F-9311-4A04-BE4D-4E8777A03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spiral notebook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1spiral notebook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1spiral notebook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1spiral notebook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3C2E-64B0-4DE7-B288-02A964612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ces in a Singl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orizonta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applied opposes the force of fri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applied opposes the force of gravity, that is, the w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F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E57B-114B-4907-ACD3-487178195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at is an Inclined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lined plane is a simple machine design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the amount of force required to do a given quantity of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extending the distance over which the force is ex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inclined plane"/>
          <p:cNvPicPr/>
          <p:nvPr/>
        </p:nvPicPr>
        <p:blipFill>
          <a:blip r:embed="rId1"/>
          <a:stretch/>
        </p:blipFill>
        <p:spPr>
          <a:xfrm>
            <a:off x="2514600" y="3200400"/>
            <a:ext cx="44956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015D-DDBB-4E5F-B155-ABAD9009B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components on incline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D58F-E1A8-4178-882B-F0B2EB46B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Normal Force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force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n object supported by a surface is the component of the supporting force that is perpendicular to the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is sitting on a level surface then the normal force is always equal and opposite of the weight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forcess.gif (1105 bytes)"/>
          <p:cNvPicPr/>
          <p:nvPr/>
        </p:nvPicPr>
        <p:blipFill>
          <a:blip r:embed="rId1"/>
          <a:srcRect l="14908" t="6108" r="0" b="4080"/>
          <a:stretch/>
        </p:blipFill>
        <p:spPr>
          <a:xfrm>
            <a:off x="5791320" y="1905120"/>
            <a:ext cx="2766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F5CC-7D8B-411A-AB37-BB2B528EA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ime two surfaces are in contact there will be a norm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ce is always perpendicular to the surfaces 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 Normal is often synonymous with the word perpendicul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8489-15FC-40D7-BBF4-EC3D845E8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Script MT Bold"/>
              </a:rPr>
              <a:t>(4)Dynamic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Friction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Hallow’s 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ghter than air balloon is accelerating upwards at 2m/s/s. Its total mass is 2000 kg. What must be the net 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us: What is the lift 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505D-F5F3-4E19-8A22-CFDDF5FEC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FF2D-7AE8-4DE9-8DFB-50C73E3F0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force that opposes the motion of two surfaces in conta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tatic Fric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that opposes the start of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from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liding Fri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of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from constant velo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frictional forces always greater than sliding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6935-F8D4-485F-8F86-5B2164EC9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014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he force of friction depends on two thing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ature of the surfaces in contact…the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oefficient of friction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rce pushing the surfaces together…the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ormal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 baseline="-14000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8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 baseline="-14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4BC3-DDA7-4AEA-86E9-4E10FA07A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Happening With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ele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ele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E30E-4BEC-4C84-A8C0-3B151CC32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(4)Dynam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Forces on an Inclined Pl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2:07:05Z</dcterms:created>
  <dc:creator>Linda Legare</dc:creator>
  <dc:description/>
  <dc:language>en-US</dc:language>
  <cp:lastModifiedBy>gandella</cp:lastModifiedBy>
  <dcterms:modified xsi:type="dcterms:W3CDTF">2010-11-08T12:54:51Z</dcterms:modified>
  <cp:revision>135</cp:revision>
  <dc:subject/>
  <dc:title>Force</dc:title>
</cp:coreProperties>
</file>